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8C3E-9CE8-4204-AD95-FF672709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9D6-3069-491A-B1BB-821D812A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901-7BBF-429E-AEB1-4D738A44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972-576A-49AE-8006-3FF2C15C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1D0-CAA2-4E2A-ADDA-AC6431D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15B-7BC3-4B45-85D6-E0216D17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D20-000E-4BB3-A379-D932687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630-1D5B-433B-9B3F-92D8EABF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23F-034F-4BCF-8624-0AF8C2E5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5EF-A87E-4F33-A5DE-5FCE6C7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4E9-5AD0-446E-BF84-01D7A421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11D-135F-43FC-A551-D0D8A1F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12A-1DFD-46B1-8E2E-FD3EDF2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A7E-AA7E-4E4D-B6D8-5569C54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42C-8F52-4328-AD05-53B3E77E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anciosia para                                                                                                        Masi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8:08Z</dcterms:modified>
  <cp:revision>104</cp:revision>
  <dc:subject/>
  <dc:title>Profile</dc:title>
</cp:coreProperties>
</file>